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543-7D67-431C-8C40-65002BAF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5F7D-CEBD-4C1D-A34F-1B08BE3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BDB-0CD2-4B5B-A977-F5969E7A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44F-AD90-439E-97D0-A147C0B4E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4CBF-7700-4D3C-A127-BD72574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8B0-9295-4282-83CB-BA6192E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7F7-034A-4802-A4F0-24920AF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243E-FC1C-4014-B58C-98623013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83E-F0BE-41CF-B46D-6B7AC6B3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4A40-1D61-4E8E-86BA-F45F5B75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7C5-311F-4AA7-AF93-ACE48E76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F36-8E08-443B-89EC-F54B419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153E-DCA9-40F8-A433-16459B20C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disastervideo.net/earthquake-car.php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66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By: Tanner Thoma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Yatzeni Cr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99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trike-Slip 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rike-Slip Fault- the rocks on either side of the fault slip past each other side-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trike-Slip fault is valley looking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Static.howstuffworks.com/gif/earthquake-1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41907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yncline &amp;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yncline- fold of rock that bends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Plateau- a large area of flat land elevated high above se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aeic.alaska.edu/quakes.middleton6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4132440"/>
            <a:ext cx="4010040" cy="2725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572000" y="3652920"/>
            <a:ext cx="457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660066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op 10 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Anch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Mexico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z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Chimb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Northwestern Iran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bennett.karoo.net/.../nathaz/ea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Gan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Messina                                  After the vide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San Francisco                   That is why you hav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watch the news!!!!!!!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267080" y="1219320"/>
            <a:ext cx="4572000" cy="2506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03840" y="411480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watch a vide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99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ress- is force that acts on rock to change its shape or volu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Stress is the changing of rocks shape after an earthqu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Topex.ucsd.edu/…/StressSSAFcaptur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541044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Te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ension- is when they pull apart in different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Tension is the crack of and earth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bbc.co.uk/.../images/g_lwpt_e_1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267080" y="3276720"/>
            <a:ext cx="4572000" cy="3146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b2b2b2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ression- pushes rock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Compression is how mountains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smate.wwwu.edu/.../eq-genral-1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S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hearing- mass of rock in opposite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Shearing is when the crust pulls apart in different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Pubs.usgs.gov/of/1998/ofr-98-0767/shear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33720" y="4208400"/>
            <a:ext cx="48006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Normal Fa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ormal Fault- is crust that pulls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Normal Fault is land is not together after an earth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Blue.utb.edu/../Lectures.zfaults_InageS@K&gt;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484800">
            <a:off x="5866920" y="2895120"/>
            <a:ext cx="27576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66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Foot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otwall- rock that lie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Footwall is a lower part of a plat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geus.dk/.../bull/nr8/nr8_p0600-089009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971800"/>
            <a:ext cx="349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99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Hanging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Hanging Wall- a block of rock that lies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Hanging Wall is a hill that is very ste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geosic.unc.edu/.../ShoshoneFault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3581280"/>
            <a:ext cx="46483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bbe0e3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Reverse Fault &amp; 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Reverse Fault- is the same structure as a normal 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Anticline-  a fold in rock that bends upward into an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risten ITC"/>
              </a:rPr>
              <a:t>www.onep.go.th/tsunami/Tsunami_Eng/pic/ex3/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2666880" cy="2579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05520" y="3276720"/>
            <a:ext cx="380988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9:03:52Z</dcterms:created>
  <dc:creator>tannerthomas</dc:creator>
  <dc:description/>
  <dc:language>en-US</dc:language>
  <cp:lastModifiedBy>tannerthomas</cp:lastModifiedBy>
  <dcterms:modified xsi:type="dcterms:W3CDTF">2008-02-07T19:26:24Z</dcterms:modified>
  <cp:revision>18</cp:revision>
  <dc:subject/>
  <dc:title>Earthquakes</dc:title>
</cp:coreProperties>
</file>